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CFCC-E7F7-4FC5-A793-38F8464E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ECF-6CC0-4E0D-967F-B05BACCB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554-2563-4AD8-B689-C5397805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38C-1929-484A-AF12-207CDF5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4E8-E848-4B1D-A1B6-F240212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AA4-6C19-4DEA-8DAE-7D7278DD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BD5-DC95-4C76-ACC3-977E792C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652-9701-4A96-9757-FD2B6519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027-7277-41F3-A79D-5101216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AC1-AB81-4E22-9190-819CDFEC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78E-B083-414F-ADD5-5640D94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6F2-347B-444D-B35A-D1BC0A4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AF6-3E46-46AC-8EED-81750DF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304-A39A-41A1-B490-DDD05A7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8733-9668-4C19-885B-54350C850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4 The ______________ model holds that cities expand outward in circula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d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ncentric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ultipl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_03"/>
          <p:cNvPicPr/>
          <p:nvPr/>
        </p:nvPicPr>
        <p:blipFill>
          <a:blip r:embed="rId1"/>
          <a:stretch/>
        </p:blipFill>
        <p:spPr>
          <a:xfrm>
            <a:off x="2057400" y="68580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5 Dwelling pattern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ary dramatically based on ancient cultur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end to be similar to Europe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d to be similar to Americ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strongly regulated by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ead to strong intermixing of rich and poor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5 Dwelling pattern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ary dramatically based on ancient cultur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end to be similar to Europe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d to be similar to Americ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strongly regulated by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ead to strong intermixing of rich and poor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6 In Latin American cities, the very poor tend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 the periphery of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narrow corridors radiating out from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a ring that immediately surround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edge cities physically separated from l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6 In Latin American cities, the very poor tend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On the periphery of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narrow corridors radiating out from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a ring that immediately surround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edge cities physically separated from l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3_15"/>
          <p:cNvPicPr/>
          <p:nvPr/>
        </p:nvPicPr>
        <p:blipFill>
          <a:blip r:embed="rId1"/>
          <a:stretch/>
        </p:blipFill>
        <p:spPr>
          <a:xfrm>
            <a:off x="2743200" y="7621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7 The process by which banks identify urban areas in which they will not make residential loan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lack-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l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n-be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7 The process by which banks identify urban areas in which they will not make residential loan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lack-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l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n-be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d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8 The process by which an inner-city neighborhood is renovated and attracts middle-class familie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nex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ntr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1 Which of the following count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b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8 The process by which an inner-city neighborhood is renovated and attracts middle-class familie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nex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entr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9 Polls in the United States show that most people prefer to liv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mall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r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y place that is within 5 mil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9 Polls in the United States show that most people prefer to liv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mall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r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y place that is within 5 mil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10 In the United States, local government can best be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solid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gm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rb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archic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10 In the United States, local government can best be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solid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Fragmen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rb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archic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1 Which of the following count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b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_01"/>
          <p:cNvPicPr/>
          <p:nvPr/>
        </p:nvPicPr>
        <p:blipFill>
          <a:blip r:embed="rId1"/>
          <a:stretch/>
        </p:blipFill>
        <p:spPr>
          <a:xfrm>
            <a:off x="0" y="739800"/>
            <a:ext cx="91440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2 Over the last five decades urban growth rates have been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2 Over the last five decades urban growth rates have been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3 In the United States, which of the following is most likely to have the larges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et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u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ar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iz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c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3 In the United States, which of the following is most likely to have the larges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u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ar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iz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c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4 The ______________ model holds that cities expand outward in circula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d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centric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ultipl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24:16Z</dcterms:modified>
  <cp:revision>84</cp:revision>
  <dc:subject/>
  <dc:title>CRS Chapter 4</dc:title>
</cp:coreProperties>
</file>